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C40-556E-4831-9A32-8694B1B0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8CD-D777-4FF3-B9CE-D0367A05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F2F-FF15-4DCD-96D8-C29C23A2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1AA-5CB8-40BB-A652-08FD2070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9FF4-5038-4259-BD71-7449B98C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8646-A995-4478-84B5-BE01DA68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B726-FC12-4E5F-8076-3F94029B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735D-29FA-4FB3-894F-65BB8688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EF6A-9E0D-4ECD-9DCC-3AF85EC8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A12D-8673-4117-BD22-EB279B9D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787D-6A40-4093-88DC-DF848772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6A3-021C-4DEE-A5B0-084D607F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FB75-0AC7-46DE-B981-2E8F6E19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6B87-922A-46AC-AD86-85623EC1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EDCE-930B-49C1-A6B5-95B0F536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F7B9-6938-4B9E-9AE1-6FD97F9E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3026-0711-4E4C-B555-D5D7AF8F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3D3-254C-474C-BA8B-AE10A9E6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3CC-8F83-4A2B-9EA1-6C196DF3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4627-7F36-45AB-A7D7-A12EF21C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504-22B9-4487-8343-F91D0CB3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188-CFA8-44B4-AE87-F66C9503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C41-D36B-452F-A7D5-1FE4FCC1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1F50-C59C-4054-91D7-4A2681D3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58B7-D1DC-405C-A0A8-5322C0FF0A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1E9E-3793-497C-8BB5-FE89C2002F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Unit 3: Chemical Process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tion 1: Chemicals in 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ments and the Periodic Tab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Periodic Tab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 structured arrangement of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s on the periodic table are grouped into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hemical famil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groups of elements in the same vertical column of the periodic table.  They tend to share similar physical and chemical proper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kali metals – group 1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kaline earth metals – group 2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le gases – group 18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logens – group 17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ments and Atomic Struc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oms are composed of three subatomic particles (protons, neutrons, electron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Prot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positively charge particles found in the nucleus of the atom.  Each proton has a mass of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Neutr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neutral particles found in the nucleus of the atom.  Each neutron has a mass of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Electron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negatively charged particles with almost no mass and can be found in orbits surrounding the nucl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mber of electrons in an atom is equal to the number of prot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s that are in the outer orbit (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valence she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have greater energy levels and a greater probability of being involved in a chemical reaction.  These electrons are called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valence elect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hr – Rutherford Diagra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orbit around the nucleus of an atom contain a specific number of electr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bit = 2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bit = 8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bit = 8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lectrons fill the orbits in order.  Each orbit must be filled completely before electrons can be placed in a new orb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2"/>
          <p:cNvSpPr/>
          <p:nvPr/>
        </p:nvSpPr>
        <p:spPr>
          <a:xfrm>
            <a:off x="5029200" y="2514600"/>
            <a:ext cx="3200400" cy="3048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5410080" y="2971800"/>
            <a:ext cx="2362320" cy="2057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Bohr – Rutherford Diagram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eate a diagram for Nit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Determine the number of electrons (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Draw the first orbit with the maximum number of electrons allowed (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Draw the second orbit with the remaining electrons (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Draw the nucleus with the protons and neutr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7"/>
          <p:cNvSpPr/>
          <p:nvPr/>
        </p:nvSpPr>
        <p:spPr>
          <a:xfrm>
            <a:off x="6248520" y="3581280"/>
            <a:ext cx="685800" cy="68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6019920" y="3429000"/>
            <a:ext cx="1143000" cy="1143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400800" y="3657600"/>
            <a:ext cx="533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7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7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6477120" y="2895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7086600" y="251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7315200" y="525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5410080" y="2819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Oval 14"/>
          <p:cNvSpPr/>
          <p:nvPr/>
        </p:nvSpPr>
        <p:spPr>
          <a:xfrm>
            <a:off x="5334120" y="4876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Oval 15"/>
          <p:cNvSpPr/>
          <p:nvPr/>
        </p:nvSpPr>
        <p:spPr>
          <a:xfrm>
            <a:off x="8077320" y="4114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6477120" y="4876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Try It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Bohr – Rutherford diagram for Magnes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val 2"/>
          <p:cNvSpPr/>
          <p:nvPr/>
        </p:nvSpPr>
        <p:spPr>
          <a:xfrm>
            <a:off x="3352680" y="2438280"/>
            <a:ext cx="3429000" cy="3505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Oval 3"/>
          <p:cNvSpPr/>
          <p:nvPr/>
        </p:nvSpPr>
        <p:spPr>
          <a:xfrm>
            <a:off x="3809880" y="2819520"/>
            <a:ext cx="2514600" cy="2743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termine the number of electrons, 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aw the first orbit (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aw the second orbit (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aw the third orbit (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aw the nucle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th the protons 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utr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4038480" y="3124080"/>
            <a:ext cx="2133720" cy="2210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4191120" y="3429000"/>
            <a:ext cx="1752480" cy="16002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724280" y="3886200"/>
            <a:ext cx="838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2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2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6629400" y="4038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5562720" y="525780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5486400" y="2819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Oval 13"/>
          <p:cNvSpPr/>
          <p:nvPr/>
        </p:nvSpPr>
        <p:spPr>
          <a:xfrm>
            <a:off x="4267080" y="2819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3657600" y="3581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3733920" y="457200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Oval 16"/>
          <p:cNvSpPr/>
          <p:nvPr/>
        </p:nvSpPr>
        <p:spPr>
          <a:xfrm>
            <a:off x="6172200" y="4419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Oval 17"/>
          <p:cNvSpPr/>
          <p:nvPr/>
        </p:nvSpPr>
        <p:spPr>
          <a:xfrm>
            <a:off x="4343400" y="5334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Oval 18"/>
          <p:cNvSpPr/>
          <p:nvPr/>
        </p:nvSpPr>
        <p:spPr>
          <a:xfrm>
            <a:off x="4648320" y="518148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val 19"/>
          <p:cNvSpPr/>
          <p:nvPr/>
        </p:nvSpPr>
        <p:spPr>
          <a:xfrm>
            <a:off x="5105520" y="30481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Oval 20"/>
          <p:cNvSpPr/>
          <p:nvPr/>
        </p:nvSpPr>
        <p:spPr>
          <a:xfrm>
            <a:off x="3124080" y="41148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Try It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diagram for Sod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rmine the number of electrons (1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w the first orbital (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w the second orbital (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w the third orbital (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w the nucleus with the protons and neutr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D3%20M11"/>
          <p:cNvPicPr/>
          <p:nvPr/>
        </p:nvPicPr>
        <p:blipFill>
          <a:blip r:embed="rId1"/>
          <a:srcRect l="-4222" t="-18893" r="-5812" b="-781"/>
          <a:stretch/>
        </p:blipFill>
        <p:spPr>
          <a:xfrm>
            <a:off x="4648320" y="1925640"/>
            <a:ext cx="403848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hemist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he study of matter, its properties, and its changes or transform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nything that has mass and takes up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ter has both physical and chemical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Try It (3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diagram for Ne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rmine the number of electrons (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w the first orbit (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w the second orbit (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w the nucleus with the protons and neutr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5943600" y="2895480"/>
            <a:ext cx="2590920" cy="2590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6324480" y="3276720"/>
            <a:ext cx="1905120" cy="1828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6553080" y="3429000"/>
            <a:ext cx="1447920" cy="1447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7010280" y="380988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0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8153280" y="4800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943600" y="34290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Oval 11"/>
          <p:cNvSpPr/>
          <p:nvPr/>
        </p:nvSpPr>
        <p:spPr>
          <a:xfrm>
            <a:off x="8381880" y="37339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Oval 12"/>
          <p:cNvSpPr/>
          <p:nvPr/>
        </p:nvSpPr>
        <p:spPr>
          <a:xfrm>
            <a:off x="7924680" y="29718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6705720" y="28195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5791320" y="434340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Oval 15"/>
          <p:cNvSpPr/>
          <p:nvPr/>
        </p:nvSpPr>
        <p:spPr>
          <a:xfrm>
            <a:off x="7238880" y="5334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Oval 16"/>
          <p:cNvSpPr/>
          <p:nvPr/>
        </p:nvSpPr>
        <p:spPr>
          <a:xfrm>
            <a:off x="6324480" y="5105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Oval 17"/>
          <p:cNvSpPr/>
          <p:nvPr/>
        </p:nvSpPr>
        <p:spPr>
          <a:xfrm>
            <a:off x="7162920" y="312408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Oval 18"/>
          <p:cNvSpPr/>
          <p:nvPr/>
        </p:nvSpPr>
        <p:spPr>
          <a:xfrm>
            <a:off x="7162920" y="4952880"/>
            <a:ext cx="30456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oble gases (column 18) are considered to be fairly s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the arrangement of the electrons in the noble gases by drawing a Bohr – Rutherford diagram for He, Ne, and Ar.  What do you notice about the arrangement of the electr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ome compounds, electrons are transferred from one atom to another to create a stable electron arrangement (like the noble gas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Bohr – Rutherford Diagram for Lithium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44197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ce that lithium has two electrons in the first orbit and one in its outer orbit (valence shel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lithium loses one electron it will have the same electron arrangement as heliu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ever the charge on the atom is no longer neutral.  It has 3 protons (positive charges) and 2 electrons (negative charges) giving an overall charge of 1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4724280" y="1981080"/>
            <a:ext cx="2590920" cy="2438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5181480" y="2362320"/>
            <a:ext cx="1752840" cy="1676160"/>
          </a:xfrm>
          <a:prstGeom prst="ellipse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5562720" y="2666880"/>
            <a:ext cx="1066680" cy="990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5791320" y="281952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5791320" y="2819520"/>
            <a:ext cx="609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 =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 =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5943600" y="2286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5943600" y="3886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4648320" y="327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on is a charged atom in which the number of electrons is different from the number of prot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rm ionic charge is used to describe the overall charge an ion h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 Li which has lost an electron is written as L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Bohr – Rutherford diagram for calci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ny electrons would calcium have to lose in order to become stable like a noble ga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ould the ionic charge be on Ca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als tend to lose their electrons and nonmetals tend to gain electr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DO I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ould most likely to happen to the electrons in fluorine if it was to become stable like a noble gas?  What would be the ionic charge on fluori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orine would gain one electrons (nonmetal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orine would have a net ionic charge of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the atom would be represented as 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fluoride 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nding “ide” is added to nonmetal 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t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ter is either classified as a pure substance or as a mix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Pure substa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one in which all the particles that make up the substance are the s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.g. Pure Wa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e substances can be further classified as elements or compo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DO I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ould most likely to happen to the electrons in sulfur if it was to become stable like a noble gas?  What would be the ionic charge on sulfu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lfur would gain two electr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sulfide 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Create a Bohr – Rutherford diagram f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lo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t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ylli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a. Create a Bohr – Rutherford diagram for the stable ion formed by each of the above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State the ionic charge on each of the ions, and write the name of the atom in ionic for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Elements Form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ounds are made by combining elements toge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Ionic Compoun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is formed when positive and negative ions join together.  The ions combine in a fashion that generally leaves the ionic compound with a neutral cha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Molecular Compou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re formed when nonmetals combine with other nonmet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emical Formul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hemical formula is a combination of symbols that represent a comp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magnesium chloride (Mg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describes a compound with one magnesium ion to two chloride 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questions 2 and 3 on page 189.  For part b construct a Bohr – Rutherford Diagram instead of a Bohr diagr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on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als and nonmetals combine to form compounds by sharing electrons (metals lose electrons to form positive ions and nonmetals gain electrons to form negative i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Aluminum chloride (Al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Al =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Cl =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(3+) + 3(1-)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Writing Formulas For Ionic Compound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s the formula for the ionic compound formed by calcium and iodin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ep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rite the symbols, with the metal fir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rite the ionic charge above each symbol to indicate the stable ion that each element form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termine how many ions of each type you need so that the total ionic charge is ze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e C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on will balance the charge of two I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o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rite the formula using subscripts to indicate the number of ions of each ty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TRY I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formula for the ionic compound formed by aluminum and sulfu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s are pure substances that cannot be broken down into simpler substances (made of only one type of ato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g. oxygen, hydrogen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unds are pure substances that are made of two or more different elements in a fixed propor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g. carbon dioxide, sodium chloride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TRY IT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formula for the ionic compound formed by aluminum and sulfu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TRY IT 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formula for the ionic compound formed by nickel and oxyg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ming Ion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ame of the metal is first followed by the name of the nonmetal.  However, the ending of the name for the nonmetal changes to “id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Calcium and Iodine become Calcium iod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Aluminum and Sulfur become Aluminum sulf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nsition Metal Charg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4038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or write the chemical formula for the following molecu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) Tin (IV) oxid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Pb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tinum (II) sulf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) S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d (II) ox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lver (I) nitr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page 19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 1, 3 – 9 on page 19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yatom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formed when metals combine with polyatomic 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Polyatomic 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groups of atoms that tend to stay together and carry an overall ionic char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perties of Mat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ter has both physical and chemical proper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Physical proper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is a characteristic of a substance (color, hardness, odour, solubility, state, melting and boiling point, siz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hysical change is a change in the size or form of a substance, which does not change the chemical properties of the subst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riting Formulas for Polyatomic Compoun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the symbols of the metal and of the polyatomic gro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the ionic char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the number of ions to balance the cha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the formula using subscrip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mmon Polyatomic 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droniu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moniu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carbo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drogen sulfat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et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chlo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t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lo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tri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lor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manga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O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ochlor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yan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drox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rbo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ox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lf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rom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-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lfi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chrom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osulf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P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ydrogen phosph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3-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osph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3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sen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3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TRY IT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formula for the ionic compound formed by sodium and sulfat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TRY IT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formula for the ionic compound formed by lead (IV) and carbonat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b(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ming Polyatomic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ame of a polyatomic compound is simply a combination of the name of the metal and the name of the polyatomic 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Potassium ion and carbonate ion form Potassium carbon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xyaci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compounds formed when hydrogen combines with polyatomic ions that contain oxyg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le 3 on page 198 list some common oxyaci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aming Aci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ids containing ions ending with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i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ten becom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ydro -ic ac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lor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chlor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uor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F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fluor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f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sulfur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ids containing ions ending with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sually become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et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etic 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rbon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rbonic 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3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r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ric ac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tr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tric 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lf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lfuric 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chlor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Cl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chloric 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3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osph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osphoric 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mangan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M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manganic 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rom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romic ac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lora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Cl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loric ac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Chemical Proper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is a characteristic behaviour that occurs when a substance changes to a new sub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hemical change is also called a chemical reaction.  It involves changing one substance into one or more different substances with different proper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arting materials in a chemical reaction are called the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reacta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the new materials are called the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produ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ids containing ions ending with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i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sually become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-ous aci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lori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Cl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lorous ac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tri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trous ac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lfi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lfurous ac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O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ochlorit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ClO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ochlorous ac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 3 – 4, 6 – 7 on page 19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lecular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f the compounds you encounter every day do not contain ions but neutral groups of atoms called molec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compounds form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covalent bon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 shared pair of electrons between two nonmetal atoms that holds the atoms together in a molecu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Hydrogen gas is a molecule formed when two hydrogen atoms combine and share their elec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e a diatomic molecule (refer to table 1 on page 202 for a list of diatomic molecules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riting Formulas for Molecular Compoun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bining capacity of a nonmetal is a measure of the number of covalent bonds that it will need to form a stable molec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s for writing molecular form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 the symbols with the left-hand element first with the combining capac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sscross the combining capacities to produce subscrip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e the subscripts if possi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 TRY IT 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ould you write the formula for a compound formed between carbon and sulfu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ming Molecular Compoun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ames of molecular compounds often contain prefixes that are used to count the number of atoms when the same two elements form different combin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efixes in Molecular Compoun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52280" y="1676520"/>
          <a:ext cx="8839440" cy="448632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5486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ample (formul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n(o)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monoxide (CO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 (C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i-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lfur trioxide (SO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tra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tetrafluoride (CF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t(a)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hosphorus pentabromide (PBr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 4 – 6 on page 20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pages 205 – 2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difference between a natural product and a synthetic produ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polym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hemical tes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re distinctive chemical reactions that can be used to identify an unknown sub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MIS, HHPS, and MS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MIS, HHPS, and MSDS are all symbols that are used to identify hazardous chemicals and the precautions that should be used when working with these chemic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WHMI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Workplace Hazardous Materials Information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HHP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Hazardous Household Product Symb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MSD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Materials Safety Data She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 1, 2, 4, and 5 page 17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0:37:44Z</dcterms:created>
  <dc:creator>Administrator</dc:creator>
  <dc:description/>
  <dc:language>en-US</dc:language>
  <cp:lastModifiedBy>amy.cook</cp:lastModifiedBy>
  <dcterms:modified xsi:type="dcterms:W3CDTF">2010-03-08T19:17:32Z</dcterms:modified>
  <cp:revision>108</cp:revision>
  <dc:subject/>
  <dc:title>Unit 3: Chemical Proces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DAP Default">
    <vt:lpwstr>NODEFAULTDAP</vt:lpwstr>
  </property>
  <property fmtid="{D5CDD505-2E9C-101B-9397-08002B2CF9AE}" pid="3" name="SE Mode">
    <vt:lpwstr>teacher</vt:lpwstr>
  </property>
</Properties>
</file>